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B22-CAC6-4986-8F12-882C5FBD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FE9-CE2D-4F27-9249-F5D2AA3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99F-BE08-46B9-9FB9-1563B979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A32-3F90-4236-9836-2E7948C0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AB1-0972-444C-8C2B-C182EADC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FA87-EC45-4945-828B-D4CB712B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13C-2247-40F0-B54F-C4BC798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4CF-B3B0-488B-95ED-AC44504D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A083-2206-4D8C-9339-51B9DA1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7DAB-1A42-46BE-B96A-43FB4946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2D0D-EC0A-4087-9737-1005E56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8AB-955D-4906-9326-3DDB7E68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00D6-6BAD-4D58-82B4-0286A8B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6A68-4553-4095-97F5-F74F184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A14-252C-4920-A61E-F64CFB7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CF7-6BFA-4174-A3E9-72747B63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B249-AE21-4AAA-843A-30B29208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732-C7AD-4963-8D8F-6CB44BB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394-04B2-49B3-B075-1073CE3D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298-5263-482C-BCBF-4A9A8227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ED3-2217-4F0F-9205-2121FA0E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F40-941D-4632-8928-2FB3F00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AFB-95F2-4D0E-AB7A-EA10782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336-DE39-4C49-B105-68D53D5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C2D2-3E3E-4102-B51C-78CAEE3DE7CD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2F21-7698-4D11-BB94-F2858D42BCC2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2d2525"/>
                </a:solidFill>
                <a:latin typeface="Arial Narrow"/>
              </a:rPr>
              <a:t>REDES  SOCIALES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525"/>
                </a:solidFill>
                <a:latin typeface="Arial Narrow"/>
              </a:rPr>
              <a:t>María Elena Iglesias López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d2525"/>
                </a:solidFill>
                <a:latin typeface="Arial Narrow"/>
              </a:rPr>
              <a:t>Noviembre, 2005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77724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6248520"/>
            <a:ext cx="7620120" cy="6094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d252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Información tomada de: D. Englander y C. Salazar – Fundación para la superación de la pobreza: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www.fundacionpobreza.cl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61c62"/>
                </a:solidFill>
                <a:latin typeface="Arial Narrow"/>
              </a:rPr>
              <a:t>RED OPERATIVA O RED DE SERVICIOS = ESTRATEGIA DE INTERVENCIÓN EN RED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a intervención en red en los hechos sociales part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de la comprensión integral  de los mismos: su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multideterminació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o individua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o familia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o ambiental inmediato a la famili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o cultural y socia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61c62"/>
                </a:solidFill>
                <a:latin typeface="Arial Narrow"/>
              </a:rPr>
              <a:t>UNA RED DE SERVICIOSTIENE COMO OBJETIVOS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Promover 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intervenciones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integral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isminuir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xpectativas 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rradas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n relación funciones y competencias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Posibilitar la ejecución coordinada de 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accion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Involucrar a la comunidad en el control y vigilancia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de los proceso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Generar insumos para el conocimiento realista de 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lo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s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problem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Facilitar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la capacitació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4128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L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as relaciones entre los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omponentes de la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RE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eben ser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horizontales, independientes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y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omplementarias al mismo tiempo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Para que esto sea posible se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n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cesita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d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respeto 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la identidad y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a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utonomí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a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e cada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omponente,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además de apertura para intercambiar informació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proveniente de otras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experiencias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61c62"/>
                </a:solidFill>
                <a:latin typeface="Arial Narrow"/>
                <a:ea typeface="Arial Unicode MS"/>
              </a:rPr>
              <a:t>P</a:t>
            </a:r>
            <a:r>
              <a:rPr b="1" lang="es-MX" sz="2600" spc="-1" strike="noStrike">
                <a:solidFill>
                  <a:srgbClr val="061c62"/>
                </a:solidFill>
                <a:latin typeface="Arial Narrow"/>
                <a:ea typeface="Arial"/>
              </a:rPr>
              <a:t>ASOS A SEGUIR EN LA CONSTITUCIÓN DE UNA RED:</a:t>
            </a:r>
            <a:br>
              <a:rPr sz="2600"/>
            </a:br>
            <a:endParaRPr b="0" lang="en-US" sz="2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Identificación de componente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A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ciones de sensibilización y motivación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efinición de objetivo y meta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efinición de competencias, roles y funcione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stablecimiento de estructura funcional y estrategia operativ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stablecimiento de compromiso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3840"/>
            <a:ext cx="73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2d2525"/>
                </a:solidFill>
                <a:latin typeface="Arial"/>
                <a:ea typeface="Arial"/>
              </a:rPr>
              <a:t>	</a:t>
            </a:r>
            <a:r>
              <a:rPr b="1" i="1" lang="es-MX" sz="3200" spc="-1" strike="noStrike">
                <a:solidFill>
                  <a:srgbClr val="2d2525"/>
                </a:solidFill>
                <a:latin typeface="Arial"/>
                <a:ea typeface="Arial"/>
              </a:rPr>
              <a:t>	</a:t>
            </a:r>
            <a:r>
              <a:rPr b="1" i="1" lang="es-MX" sz="3200" spc="-1" strike="noStrike">
                <a:solidFill>
                  <a:srgbClr val="2d2525"/>
                </a:solidFill>
                <a:latin typeface="Arial"/>
                <a:ea typeface="Arial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731520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Programación de a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ciones destinadas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a la  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   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onstrucción de un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marco mínimo común 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    </a:t>
            </a: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comprensión y aborda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je del tema o problema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Diseño de sistema de comunicación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d2525"/>
                </a:solidFill>
                <a:latin typeface="Arial Narrow"/>
                <a:ea typeface="Arial"/>
              </a:rPr>
              <a:t>Elaboración de un Plan de acción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  <a:ea typeface="Arial"/>
              </a:rPr>
              <a:t>.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5c6d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61c62"/>
                </a:solidFill>
                <a:latin typeface="Arial Narrow"/>
              </a:rPr>
              <a:t>¿QUÉ ES UNA RED?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Tejido de relaciones e interacciones que 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establecen a lo largo de la vida a partir d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finalidades, intenciones o ubicaciones  que s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comparten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Son universal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Explícitas o n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Formales o informales,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Temporales o permanentes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61c62"/>
                </a:solidFill>
                <a:latin typeface="Century Gothic"/>
              </a:rPr>
              <a:t>BENEFICIOS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d2525"/>
                </a:solidFill>
                <a:latin typeface="Arial Narrow"/>
              </a:rPr>
              <a:t>Información</a:t>
            </a:r>
            <a:endParaRPr b="0" i="1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d2525"/>
                </a:solidFill>
                <a:latin typeface="Arial Narrow"/>
              </a:rPr>
              <a:t>Apoyo mutuo</a:t>
            </a:r>
            <a:endParaRPr b="0" i="1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d2525"/>
                </a:solidFill>
                <a:latin typeface="Arial Narrow"/>
              </a:rPr>
              <a:t>Acceso a recursos y destrezas diversas</a:t>
            </a:r>
            <a:endParaRPr b="0" i="1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d2525"/>
                </a:solidFill>
                <a:latin typeface="Arial Narrow"/>
              </a:rPr>
              <a:t>Logros que individualmente no se puden alcanzar o se alcanzan con mayor dificultad</a:t>
            </a:r>
            <a:endParaRPr b="0" i="1" lang="en-US" sz="3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d2525"/>
                </a:solidFill>
                <a:latin typeface="Arial Narrow"/>
              </a:rPr>
              <a:t>Constituye un núcleo de accion que posibilita el “empoderamiento”</a:t>
            </a:r>
            <a:endParaRPr b="0" i="1" lang="en-US" sz="3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61c62"/>
                </a:solidFill>
                <a:latin typeface="Arial Narrow"/>
              </a:rPr>
              <a:t>RED FORMAL</a:t>
            </a:r>
            <a:r>
              <a:rPr b="1" lang="es-MX" sz="4400" spc="-1" strike="noStrike">
                <a:solidFill>
                  <a:srgbClr val="061c62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Tejido de relaciones e interaccion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se establece en forma intenciona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personas u organizacion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comparten met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están dispuestas a trabajar junt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ponen recursos y destrez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	</a:t>
            </a: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individuales a disposición del colectiv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61c62"/>
                </a:solidFill>
                <a:latin typeface="Arial Narrow"/>
              </a:rPr>
              <a:t>CARACTERÍSTICAS DE UNA RED EFECTIVA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Bien organizad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Con identidad como equip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Acuerdos sobre normas y procedimiento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Sistema y estructura para la toma de decisiones, la acción  y la comunicació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Potencia los recursos y las habilidades individual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571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61c62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ELEMENTOS PARA FORMAR UNA RE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Claridad en el objetiv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Compromis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Misión y visión consensuad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ELEMENTOS PARA MANTENER UNA RE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Normas clar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Organización y comunicación fluida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Liderazgo compartido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d2525"/>
                </a:solidFill>
                <a:latin typeface="Arial Narrow"/>
              </a:rPr>
              <a:t>Participación plen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71800"/>
            <a:ext cx="4572000" cy="2831760"/>
          </a:xfrm>
          <a:prstGeom prst="rect">
            <a:avLst/>
          </a:prstGeom>
          <a:noFill/>
          <a:ln w="2844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1.- CRITERIO TERRITORIAL 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d2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Redes Comunales</a:t>
            </a:r>
            <a:r>
              <a:rPr b="0" i="1" lang="es-ES_tradnl" sz="1200" spc="-1" strike="noStrike">
                <a:solidFill>
                  <a:srgbClr val="2d2525"/>
                </a:solidFill>
                <a:latin typeface="Century Gothic"/>
              </a:rPr>
              <a:t> son aquellas en que sus miembros representan organizaciones </a:t>
            </a:r>
            <a:r>
              <a:rPr b="0" i="1" lang="es-ES_tradnl" sz="1200" spc="-1" strike="noStrike" u="sng">
                <a:solidFill>
                  <a:srgbClr val="2d2525"/>
                </a:solidFill>
                <a:uFillTx/>
                <a:latin typeface="Century Gothic"/>
              </a:rPr>
              <a:t>de</a:t>
            </a:r>
            <a:r>
              <a:rPr b="1" i="1" lang="es-ES_tradnl" sz="1200" spc="-1" strike="noStrike">
                <a:solidFill>
                  <a:srgbClr val="2d2525"/>
                </a:solidFill>
                <a:latin typeface="Century Gothic"/>
              </a:rPr>
              <a:t> </a:t>
            </a:r>
            <a:r>
              <a:rPr b="0" i="1" lang="es-ES_tradnl" sz="1200" spc="-1" strike="noStrike">
                <a:solidFill>
                  <a:srgbClr val="2d2525"/>
                </a:solidFill>
                <a:latin typeface="Century Gothic"/>
              </a:rPr>
              <a:t>la </a:t>
            </a:r>
            <a:r>
              <a:rPr b="0" i="1" lang="es-ES_tradnl" sz="1200" spc="-1" strike="noStrike" u="sng">
                <a:solidFill>
                  <a:srgbClr val="2d2525"/>
                </a:solidFill>
                <a:uFillTx/>
                <a:latin typeface="Century Gothic"/>
              </a:rPr>
              <a:t>comuna,</a:t>
            </a:r>
            <a:r>
              <a:rPr b="0" lang="es-ES_tradnl" sz="1200" spc="-1" strike="noStrike">
                <a:solidFill>
                  <a:srgbClr val="2d2525"/>
                </a:solidFill>
                <a:latin typeface="Century Gothic"/>
              </a:rPr>
              <a:t> problemas a nivel comunal.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d2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Redes Regionales </a:t>
            </a:r>
            <a:r>
              <a:rPr b="0" i="1" lang="es-ES_tradnl" sz="1200" spc="-1" strike="noStrike">
                <a:solidFill>
                  <a:srgbClr val="2d2525"/>
                </a:solidFill>
                <a:latin typeface="Century Gothic"/>
              </a:rPr>
              <a:t>en estas participan representantes de organizaciones y/o instituciones de la </a:t>
            </a:r>
            <a:r>
              <a:rPr b="0" i="1" lang="es-ES_tradnl" sz="1200" spc="-1" strike="noStrike" u="sng">
                <a:solidFill>
                  <a:srgbClr val="2d2525"/>
                </a:solidFill>
                <a:uFillTx/>
                <a:latin typeface="Century Gothic"/>
              </a:rPr>
              <a:t>región,</a:t>
            </a:r>
            <a:r>
              <a:rPr b="0" i="1" lang="es-ES_tradnl" sz="1200" spc="-1" strike="noStrike">
                <a:solidFill>
                  <a:srgbClr val="2d2525"/>
                </a:solidFill>
                <a:latin typeface="Century Gothic"/>
              </a:rPr>
              <a:t> de varias comunas.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d2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Redes Nacionales </a:t>
            </a:r>
            <a:r>
              <a:rPr b="0" i="1" lang="es-ES_tradnl" sz="1200" spc="-1" strike="noStrike">
                <a:solidFill>
                  <a:srgbClr val="2d2525"/>
                </a:solidFill>
                <a:latin typeface="Century Gothic"/>
              </a:rPr>
              <a:t>los miembros representan a  diversos instituciones y/o organismos  a </a:t>
            </a:r>
            <a:r>
              <a:rPr b="0" i="1" lang="es-ES_tradnl" sz="1200" spc="-1" strike="noStrike" u="sng">
                <a:solidFill>
                  <a:srgbClr val="2d2525"/>
                </a:solidFill>
                <a:uFillTx/>
                <a:latin typeface="Century Gothic"/>
              </a:rPr>
              <a:t>nivel de país.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2d252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Redes Internacionales </a:t>
            </a:r>
            <a:r>
              <a:rPr b="0" lang="es-ES_tradnl" sz="1200" spc="-1" strike="noStrike">
                <a:solidFill>
                  <a:srgbClr val="2d2525"/>
                </a:solidFill>
                <a:latin typeface="Century Gothic"/>
              </a:rPr>
              <a:t>sus miembros representan a entidades de </a:t>
            </a:r>
            <a:r>
              <a:rPr b="0" lang="es-ES_tradnl" sz="1200" spc="-1" strike="noStrike" u="sng">
                <a:solidFill>
                  <a:srgbClr val="2d2525"/>
                </a:solidFill>
                <a:uFillTx/>
                <a:latin typeface="Century Gothic"/>
              </a:rPr>
              <a:t>diversas naciones.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880" y="1828800"/>
            <a:ext cx="2635920" cy="276480"/>
          </a:xfrm>
          <a:prstGeom prst="rect">
            <a:avLst/>
          </a:prstGeom>
          <a:noFill/>
          <a:ln w="2844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2d2525"/>
                </a:solidFill>
                <a:latin typeface="Century Gothic"/>
              </a:rPr>
              <a:t>Podemos formar redes según un…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7240" y="1676520"/>
            <a:ext cx="23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1.- Criterio Territorial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2.- Criterio de Pertenencia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d2525"/>
                </a:solidFill>
                <a:latin typeface="Century Gothic"/>
              </a:rPr>
              <a:t>3.- Criterio de Funcionalidad 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828800"/>
            <a:ext cx="380880" cy="380880"/>
          </a:xfrm>
          <a:custGeom>
            <a:avLst/>
            <a:gdLst>
              <a:gd name="textAreaLeft" fmla="*/ 59400 w 380880"/>
              <a:gd name="textAreaRight" fmla="*/ 33336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a5cdf"/>
          </a:solidFill>
          <a:ln w="936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44792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514600"/>
            <a:ext cx="985680" cy="304920"/>
          </a:xfrm>
          <a:custGeom>
            <a:avLst/>
            <a:gdLst>
              <a:gd name="textAreaLeft" fmla="*/ 169200 w 985680"/>
              <a:gd name="textAreaRight" fmla="*/ 730800 w 985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19" hR="21600" stAng="10800000" swAng="5400000"/>
                <a:lnTo>
                  <a:pt x="12303" y="0"/>
                </a:lnTo>
                <a:arcTo wR="7419" hR="21600" stAng="-5400000" swAng="2650283"/>
                <a:lnTo>
                  <a:pt x="21176" y="14400"/>
                </a:lnTo>
                <a:lnTo>
                  <a:pt x="17280" y="21600"/>
                </a:lnTo>
                <a:lnTo>
                  <a:pt x="12536" y="14400"/>
                </a:lnTo>
                <a:lnTo>
                  <a:pt x="14414" y="14400"/>
                </a:lnTo>
                <a:arcTo wR="7419" hR="21600" stAng="-2749717" swAng="-2240641"/>
                <a:lnTo>
                  <a:pt x="9861" y="1204"/>
                </a:lnTo>
                <a:arcTo wR="7419" hR="21600" stAng="-5809642" swAng="-4990358"/>
                <a:close/>
              </a:path>
              <a:path fill="darkenLess" w="21600" h="21600">
                <a:moveTo>
                  <a:pt x="0" y="21600"/>
                </a:moveTo>
                <a:arcTo wR="7419" hR="21600" stAng="10800000" swAng="5400000"/>
                <a:lnTo>
                  <a:pt x="7419" y="0"/>
                </a:lnTo>
                <a:arcTo wR="7419" hR="21600" stAng="-5400000" swAng="409642"/>
                <a:lnTo>
                  <a:pt x="9861" y="1204"/>
                </a:lnTo>
                <a:arcTo wR="7419" hR="21600" stAng="-5809642" swAng="-4990358"/>
                <a:close/>
              </a:path>
            </a:pathLst>
          </a:custGeom>
          <a:solidFill>
            <a:srgbClr val="4a5cdf"/>
          </a:solidFill>
          <a:ln w="936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5200" y="41148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225252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91320" y="388620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2d2525"/>
                </a:solidFill>
                <a:latin typeface="Century Gothic"/>
              </a:rPr>
              <a:t>Comencemos a conocer las redes que se definen según el territorio que abarcan… éstas son las de criterio  territorial !</a:t>
            </a: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800600"/>
            <a:ext cx="519120" cy="485640"/>
          </a:xfrm>
          <a:prstGeom prst="leftArrow">
            <a:avLst>
              <a:gd name="adj1" fmla="val 50000"/>
              <a:gd name="adj2" fmla="val 26723"/>
            </a:avLst>
          </a:prstGeom>
          <a:solidFill>
            <a:srgbClr val="4a5cdf"/>
          </a:solidFill>
          <a:ln w="9360">
            <a:solidFill>
              <a:srgbClr val="4a5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09480"/>
            <a:ext cx="6705360" cy="368280"/>
          </a:xfrm>
          <a:prstGeom prst="rect">
            <a:avLst/>
          </a:prstGeom>
          <a:noFill/>
          <a:ln w="28440">
            <a:solidFill>
              <a:srgbClr val="ffe2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4a5cdf"/>
                </a:solidFill>
                <a:latin typeface="Century Gothic"/>
              </a:rPr>
              <a:t>¿QUÉ TIPOS DE REDES EXISTEN?*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7620120" cy="6094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d252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Información tomada de: D. Englander y C. Salazar – Fundación para la superación de la pobreza: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www.fundacionpobreza.cl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0"/>
          <a:ext cx="79246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6248520"/>
            <a:ext cx="7620120" cy="6094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d252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Información tomada de: D. Englander y C. Salazar – Fundación para la superación de la pobreza: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www.fundacionpobreza.cl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0"/>
          <a:ext cx="7772400" cy="632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139680"/>
          <a:ext cx="7010280" cy="5842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9680"/>
                    <a:ext cx="7010280" cy="58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6248520"/>
            <a:ext cx="7620120" cy="60948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d252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Información tomada de: D. Englander y C. Salazar – Fundación para la superación de la pobreza: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 </a:t>
            </a:r>
            <a:r>
              <a:rPr b="1" lang="es-ES" sz="1400" spc="-1" strike="noStrike">
                <a:solidFill>
                  <a:srgbClr val="2d2525"/>
                </a:solidFill>
                <a:latin typeface="Arial Narrow"/>
              </a:rPr>
              <a:t>www.fundacionpobreza.cl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0:50:56Z</dcterms:created>
  <dc:creator>malena</dc:creator>
  <dc:description/>
  <dc:language>en-US</dc:language>
  <cp:lastModifiedBy>marlene</cp:lastModifiedBy>
  <cp:lastPrinted>2000-06-16T01:55:40Z</cp:lastPrinted>
  <dcterms:modified xsi:type="dcterms:W3CDTF">2005-12-05T15:22:58Z</dcterms:modified>
  <cp:revision>35</cp:revision>
  <dc:subject/>
  <dc:title>   CIRCUITO DE ATENCIÓN DE CASOS DE MALTRATO Y ABUSO SEXUAL INFANTIL</dc:title>
</cp:coreProperties>
</file>